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3E2-BF0B-40D2-9C3E-6B7D9EB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235-AA9B-42ED-9410-F0EAA37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255-83B5-4D80-8D20-73F0F392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73B-0AE8-4C82-8FE7-48FC8CAB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E25-91A7-4430-937C-7BEF406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800-7A67-4599-8AE3-A73A18F5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BDF-40CF-4712-86BA-F166D9C7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E29-9BB4-4BEC-8A7B-72C68BA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B7F-767B-4F8A-8BA9-049C229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743-4C4E-454B-B6E0-2B29569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F9B-BB5B-41E3-99C7-2CEC35A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062-6B77-42C9-B991-B3E1242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B26-2074-40E4-8880-37207D36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620640"/>
            <a:ext cx="835344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Friday you should be able to answer the following questions for each method of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the practice be set-up/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you do during the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times did you repeat the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 environment open/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focus of the practic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20640"/>
            <a:ext cx="835344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of practice you used to develop the sk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echnique you identified as a weaknes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badminton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692280"/>
            <a:ext cx="8280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mint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raining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variety of skil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both singles and doubles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formal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20640"/>
            <a:ext cx="8353440" cy="68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B – Assessme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n 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8 under exam condi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pportunity for re-sit part 1) – Wednesda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9,10,11 under exam conditions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12,13,14 fo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pass requirement 32/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20640"/>
            <a:ext cx="835344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ap – 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here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how model performance and Stages of learning can help ou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133720"/>
            <a:ext cx="574560" cy="790560"/>
          </a:xfrm>
          <a:prstGeom prst="downArrow">
            <a:avLst>
              <a:gd name="adj1" fmla="val 50000"/>
              <a:gd name="adj2" fmla="val 34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573360"/>
            <a:ext cx="574560" cy="935280"/>
          </a:xfrm>
          <a:prstGeom prst="downArrow">
            <a:avLst>
              <a:gd name="adj1" fmla="val 50000"/>
              <a:gd name="adj2" fmla="val 4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ap – where are we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individual training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out training programme and monitor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 or change programme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test performance to check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47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2060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386064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20640"/>
            <a:ext cx="8353440" cy="59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hree methods of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20640"/>
            <a:ext cx="835344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ype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er drill with no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er drill with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ethod of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620640"/>
            <a:ext cx="835344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follow practices in order by the amount of pressure they place on a per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with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withou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pressure effect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feedback effect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maddenp1</cp:lastModifiedBy>
  <dcterms:modified xsi:type="dcterms:W3CDTF">2010-11-17T10:26:27Z</dcterms:modified>
  <cp:revision>10</cp:revision>
  <dc:subject/>
  <dc:title>Slide 1</dc:title>
</cp:coreProperties>
</file>